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DB00-CF33-49D7-A2AA-4F63F0EE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6B86-A132-4DA4-AF72-879CD4682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9E85-F9F9-4E7F-A539-D284EAE74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0442-ED0E-4CAA-94C6-B23BF39E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isplay/Biology/The+Origins+and+Diversity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1D16-C536-401B-A31A-F0CAAA49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83ED-4FE5-460A-AC4C-217867EE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tcpr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013A-AD48-44CB-9B45-04E01C83B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923A-D79A-4411-8C3E-8045FEB82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transcription_transl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A4EA-DA37-441E-B0C6-BF40BECF9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1DFE-D3E1-492B-9700-2ADCB8BC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863-833D-4FE0-A358-627C3A07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2A8-A42F-438D-93A7-08628C22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8C6-C118-46A0-8D6B-FF64E83D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504-8049-4BAF-B2F9-93C7912B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629-C4EB-453A-AF50-132DC2BA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42C-0F03-4998-B827-3FFD1756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818-195F-48B5-8C36-27779037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0DE-E67F-4660-8B60-5359E19D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394-695D-411D-B461-5BE59495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011-8F43-444E-B7FE-D366CA4F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F95-6E0E-49C7-A3C7-3FDF127C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99A-5968-4E12-B0D7-5127C377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1EF0-7F07-4B8A-B216-8AD5AB4FC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flow of information from DNA to RNA to 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NA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RNA to polypep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RNA_world"/>
          <p:cNvPicPr/>
          <p:nvPr/>
        </p:nvPicPr>
        <p:blipFill>
          <a:blip r:embed="rId1"/>
          <a:stretch/>
        </p:blipFill>
        <p:spPr>
          <a:xfrm>
            <a:off x="1511280" y="198108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polymerase creates mRNA molecule complementary to template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tartrans"/>
          <p:cNvPicPr/>
          <p:nvPr/>
        </p:nvPicPr>
        <p:blipFill>
          <a:blip r:embed="rId1"/>
          <a:stretch/>
        </p:blipFill>
        <p:spPr>
          <a:xfrm>
            <a:off x="1401840" y="3352680"/>
            <a:ext cx="618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 translates mRNA and assembles an amino acid chain using 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exp_human100"/>
          <p:cNvPicPr/>
          <p:nvPr/>
        </p:nvPicPr>
        <p:blipFill>
          <a:blip r:embed="rId1"/>
          <a:stretch/>
        </p:blipFill>
        <p:spPr>
          <a:xfrm>
            <a:off x="1643040" y="2895480"/>
            <a:ext cx="601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transcription_2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ode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5-11-12T20:11:36Z</dcterms:modified>
  <cp:revision>71</cp:revision>
  <dc:subject/>
  <dc:title>Molecular Genetics</dc:title>
</cp:coreProperties>
</file>